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0B1D3-DF5A-46E6-B0FA-E3B498C34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AB896-6417-4572-BC80-936AF61E5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e leveraging to a new level, where most of the resources and activities are leverages and only the adjustments are spe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69BAE-3BDC-42DA-9CDB-C84BBA34B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BD618-C550-4EBD-9784-9A01D7511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3C5-3456-4689-85F8-BAFDA31D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363-E22C-49F4-8B5B-2B5859C4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F95-D054-45BA-9081-4AB26DBC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78F-EC84-498E-821B-32F63034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B05-573E-488A-80BB-CA75B066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0EB-CE8B-43AA-B2E3-CEB4D361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EBD-C304-4930-B63D-24BB1D3B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6F1-BA58-4303-B0ED-A1D4168E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8EE-C5E0-4757-9E2A-AB9841FA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F50-3EC6-4A83-9ED1-DDAD53A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6CE-1AD1-40F8-AF6E-D8257A82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DE8-DDC0-4D0D-A175-C566E3D1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2F2F3-759E-48E6-8446-4A30A3CBE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DA1F4-6583-4C7D-A4F5-94BDA805C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mispheric Transport of Air Pollutant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merging HTAP Data Net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AP Network-1.pn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02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1676160"/>
            <a:ext cx="2819520" cy="1981080"/>
          </a:xfrm>
          <a:prstGeom prst="rect">
            <a:avLst/>
          </a:prstGeom>
          <a:solidFill>
            <a:srgbClr val="dce6f2">
              <a:alpha val="7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ovanni, NASA,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ISGEI, Northr.,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S, CIRA,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Fed, WashU,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IG, EPA, U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4572000" y="1676520"/>
            <a:ext cx="2743200" cy="1828800"/>
          </a:xfrm>
          <a:prstGeom prst="rect">
            <a:avLst/>
          </a:prstGeom>
          <a:solidFill>
            <a:srgbClr val="dce6f2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Z Juelich,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R,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LU, Norv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mispheric Transport of Air Pollutants 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TAP Data Network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0880" y="1523880"/>
            <a:ext cx="8382240" cy="32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EOSS is a good (system of systems) model for HT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s ar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utonom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ganizations, scient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ion is largel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tegration is key to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HTAP is a suitable use case for the emerging GE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28600" y="4876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AP Model Data Server Projec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 Software co-developed by FZ Juelich  - WashU DataF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ibuted to GEOSS, etc…through open SourceForg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Z Juelich server offers 1000+ HTAP model ‘datasets’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CS–netCDF–CF Standard Protoco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Z Juelich &amp; WashU Co-developed WCS Server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57" name="Title 1"/>
          <p:cNvSpPr/>
          <p:nvPr/>
        </p:nvSpPr>
        <p:spPr>
          <a:xfrm>
            <a:off x="228600" y="2590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YOUR client, e.g Giovanni, software can also access any HTAP model ‘datasets’, perform your types of analy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04920" y="56386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ata the tools and the methods are shared to the Community through the AQ Co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participants of this project automatically become members of AQ Co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ted Data System</a:t>
            </a: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ashU DataFed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ajor datas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Surface Visibility, 1945- (~10,000 s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ASOS 1 min Visibility (~800 S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OMI Set 2004- (30 Variables, 30km r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MODIS AOT, 2001- (daily 10 km) </a:t>
            </a:r>
            <a:r>
              <a:rPr b="0" lang="en-US" sz="2400" spc="-1" strike="noStrike">
                <a:solidFill>
                  <a:srgbClr val="43d200"/>
                </a:solidFill>
                <a:latin typeface="Calibri"/>
              </a:rPr>
              <a:t>THROUGH RSIG!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3d200"/>
                </a:solidFill>
                <a:latin typeface="Calibri"/>
              </a:rPr>
              <a:t>All exposed through WCS, GEOSS Catalog, uFIN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System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AP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al Events Data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3d200"/>
                </a:solidFill>
                <a:latin typeface="Calibri"/>
              </a:rPr>
              <a:t>Projects contributed WCS software, uFIND to GE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5:17:32Z</dcterms:created>
  <dc:creator>Rudy Husar</dc:creator>
  <dc:description/>
  <dc:language>en-US</dc:language>
  <cp:lastModifiedBy>Rudy Husar</cp:lastModifiedBy>
  <dcterms:modified xsi:type="dcterms:W3CDTF">2010-07-21T15:55:26Z</dcterms:modified>
  <cp:revision>2</cp:revision>
  <dc:subject/>
  <dc:title>Hemispheric Transport of Air Pollutants Emerging HTAP Data Network</dc:title>
</cp:coreProperties>
</file>